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tars" descr=""/>
          <p:cNvPicPr/>
          <p:nvPr/>
        </p:nvPicPr>
        <p:blipFill>
          <a:blip r:embed="rId2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-380880" y="-304920"/>
            <a:ext cx="990576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W-planet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1063440" cy="105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52280" y="5105520"/>
            <a:ext cx="9524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before you hangs a lone planet known as Var’Dha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imes New Roman"/>
              </a:rPr>
              <a:t>and suddenly you have</a:t>
            </a: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a bad feeling about th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SD" descr=""/>
          <p:cNvPicPr/>
          <p:nvPr/>
        </p:nvPicPr>
        <p:blipFill>
          <a:blip r:embed="rId2"/>
          <a:stretch/>
        </p:blipFill>
        <p:spPr>
          <a:xfrm>
            <a:off x="8229600" y="609480"/>
            <a:ext cx="736560" cy="36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28600" y="0"/>
            <a:ext cx="97534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15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259092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News Gothic"/>
              </a:rPr>
              <a:t>this sh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News Gothic"/>
              </a:rPr>
              <a:t>creat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News Gothic"/>
              </a:rPr>
              <a:t>kevin perr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News Gothic"/>
              </a:rPr>
              <a:t>DeMongg.aol.c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3200400"/>
            <a:ext cx="9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77777"/>
                </a:solidFill>
                <a:latin typeface="News Gothic"/>
              </a:rPr>
              <a:t>For my friends on the SW-RPG listser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77777"/>
                </a:solidFill>
                <a:latin typeface="News Gothic"/>
              </a:rPr>
              <a:t>Modern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News Gothic"/>
              </a:rPr>
              <a:t>st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77777"/>
                </a:solidFill>
                <a:latin typeface="News Gothic"/>
              </a:rPr>
              <a:t>owes ec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77777"/>
                </a:solidFill>
                <a:latin typeface="News Gothic"/>
              </a:rPr>
              <a:t>an ap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-380880" y="-304920"/>
            <a:ext cx="990576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stars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9905760" cy="7162920"/>
          </a:xfrm>
          <a:prstGeom prst="rect">
            <a:avLst/>
          </a:prstGeom>
          <a:ln w="0">
            <a:noFill/>
          </a:ln>
        </p:spPr>
      </p:pic>
      <p:pic>
        <p:nvPicPr>
          <p:cNvPr id="40" name="THX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462640" cy="22478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-380880" y="2209680"/>
            <a:ext cx="99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News Gothic"/>
              </a:rPr>
              <a:t>unfortunately  not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thCenturyFox" descr=""/>
          <p:cNvPicPr/>
          <p:nvPr/>
        </p:nvPicPr>
        <p:blipFill>
          <a:blip r:embed="rId1"/>
          <a:stretch/>
        </p:blipFill>
        <p:spPr>
          <a:xfrm>
            <a:off x="-228600" y="-12600"/>
            <a:ext cx="96012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2280" y="266688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long time ago in a galaxy far, far awa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52280" y="129528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tar Jedi"/>
              </a:rPr>
              <a:t>STAR W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2280" y="609480"/>
            <a:ext cx="952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News Gothic"/>
              </a:rPr>
              <a:t>Episode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52280" y="609480"/>
            <a:ext cx="952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News Gothic"/>
              </a:rPr>
              <a:t>Episode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2280" y="838080"/>
            <a:ext cx="94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tar Jedi"/>
              </a:rPr>
              <a:t>The Tides of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52280" y="609480"/>
            <a:ext cx="952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News Gothic"/>
              </a:rPr>
              <a:t>Episode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52280" y="1219320"/>
            <a:ext cx="952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It is a period of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It is feared the galaxy will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in flame.  The Senate is in a state of un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as the Supreme Chancler Valorum has been 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a vote of no confi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Senator Palpatine, of the backwater planet of Nabo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has succeeded to the seat of galactic powe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The Jedi Council, once strong and unflinching, now con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less and less with the Senatorials,  who seem more inter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in following a would be “emperor” than leading the citizens they se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Today the future seems blea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For the Republic, at this very moment stands in accord to launc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plan borne of the new Supreme Chancler’s committee that shall increa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militant arm of the Republic to a state unseen in all of history.  Dreams of a fleet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bring his word to the galaxy stands afire in his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The ebb of the galactic tide of balance has shif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Even Master Yoda hadn’t foreseen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"/>
              </a:rPr>
              <a:t>May the force be with us al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52280" y="838080"/>
            <a:ext cx="952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Star Jedi"/>
              </a:rPr>
              <a:t>the Tides of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0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Galactic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-7 years BSW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Session Date: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	</a:t>
            </a:r>
            <a:r>
              <a:rPr b="0" lang="en-US" sz="700" spc="-1" strike="noStrike">
                <a:solidFill>
                  <a:srgbClr val="4d4d4d"/>
                </a:solidFill>
                <a:latin typeface="News Gothic"/>
              </a:rPr>
              <a:t>June 26th 1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7T02:39:11Z</dcterms:created>
  <dc:creator>Kevin Perrine</dc:creator>
  <dc:description/>
  <dc:language>en-US</dc:language>
  <cp:lastModifiedBy>Kevin Perrine</cp:lastModifiedBy>
  <dcterms:modified xsi:type="dcterms:W3CDTF">1999-06-27T08:03:13Z</dcterms:modified>
  <cp:revision>32</cp:revision>
  <dc:subject/>
  <dc:title>No Slide Title</dc:title>
</cp:coreProperties>
</file>